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wmf" ContentType="image/x-wmf"/>
  <Override PartName="/ppt/media/image12.wmf" ContentType="image/x-wmf"/>
  <Override PartName="/ppt/media/image9.jpeg" ContentType="image/jpeg"/>
  <Override PartName="/ppt/media/image10.jpeg" ContentType="image/jpeg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77E-5B45-4E02-889C-AF2A1D02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5C9-2829-4DC2-BF25-56B71638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AB4D0-A70A-40C3-8F22-1E349A7D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F21BF-FAC7-4BB5-9610-CD8A5BFD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E52C6-38DB-4925-86DE-B39F7DC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98707-6B38-4697-A130-4360CD1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77834-9C08-4461-98EA-FABD3B9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30A0F-AAFB-4C4D-8B86-F2641EC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93FA4-AA23-43EF-AAFB-B791C9D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F995A-A5DB-4158-B0AE-3C32380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47CC3-DA23-44E9-9E16-BA370D1F7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074C5-FCEC-41D7-8ECA-FD02FEE4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F9B-FA5E-4979-91E5-DB4F7490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2DE90-DA3F-4AF5-AE27-39D59F67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2D6E1-4E47-4E01-9FC3-10C2F904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0B76F-EEA7-4B45-BDFF-68A58525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0878C-313F-4F88-BA93-35BD9EA5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2D4C7-0FD8-4444-A3D4-21D9A273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EC371-F508-4F18-B43F-B71838BE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730E-A0F6-45E4-B5D0-ADEABD9E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BEAC3-31E1-45CD-AB4F-BC2C9B45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9BD5C-7D78-4F6D-9F4F-3D1CEDFD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9CC66-079C-42B9-A208-F4DBA615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69A-93D3-4BC5-9F77-ED1A5461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36566-2097-4BF4-A4C6-2A3C7CD6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A3504-8566-40D3-BD46-C99F2B38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E311E-F215-4F24-93C8-6A875464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68274-4AB7-4179-9514-D537694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C9118-3E97-41A2-91A0-A04CDD39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A68F6-8406-473B-A445-3A7A4F44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37F88-3FA2-4459-9B2E-E4170384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AE507-7C2C-40F8-9AE8-EF2E2E58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A0046C-9E01-4850-9708-0AA7C4B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6C0DD-7362-48BB-8E13-6CE00D5B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2163-81C3-4144-A1A6-0A102E94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3F565-924F-441D-AD1B-D6E3042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FCCB9-0779-4493-AC04-BD72DEEB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7F93B-3F56-40C4-B96E-6F3B80E9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45154-E821-40DD-8C98-C0A62B72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055AE-82BC-47FA-A456-221F7888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9F07A-AEDC-41B8-A85B-3F2986C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FF065-4AA5-4B06-B179-C6308B5F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AB6F7-C9FF-4979-9F7E-9912054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A5011-A81D-4377-AC87-0D063F48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A7E1B-6AFF-4933-8B82-49545E53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B950-1CD8-456A-83B2-76094CC1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B8A1D-7A62-413F-85D6-36A82D1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2B091-E498-43AE-98E5-44AD5820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F885A-69E9-465D-9F5E-A8003A7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4A3EF-ABF5-45BA-AD3B-90558EF1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DD0F3-D7C8-4E01-9847-0ED86DA4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54C2-E1E5-4393-8EFF-DAC9BAD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1BDA-3794-430D-8E4F-3019C3C1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C87-BCB4-42DB-8EDD-DB46DDBD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CB1E-F329-4A25-A4CA-F5713FE4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FE6E-E58E-4A72-85F9-4B488B93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D02-2A5D-46CD-A5C4-F2E3EA84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54C0-F405-4E9B-9F14-8BC7409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46D-6EB0-4A62-9CA8-E952545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76FB-C776-4C51-97B1-E821C7B9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E946-C880-468B-88D3-0CB08BCA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0FE7-3D90-415E-9687-12A77E7D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B0BE-0CDC-493A-91A1-4F9FB8D2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E6D8A-9FC2-4DC2-8D4F-03A0E55A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457B-986D-4C18-AD9D-265EE2B1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4A8F4-3DA5-4875-84F0-0944BD8D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1AE6-1178-4DD1-B0E7-8542932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C9E-71E1-4C01-85C0-93F96014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5B2CC-95E4-460A-A735-8B710A41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EE73-CB3D-4CF8-8516-38C8D3AA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C41D1-9371-457D-BB73-C7AB460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C25D3-BA88-41A6-99BE-C4FEA5CC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268F-6534-4E51-8C0D-2CE522E1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A13EE-5C32-48EC-90FC-05F51F38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983F-1483-4EC6-A340-9DF5D76C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D892-9AE9-4915-BE18-7E4CA7DE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F018D-9C70-4718-B7C2-D4EEC894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DF55-FDC8-4A1A-A6B1-0E5BF25F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DCB4-A46C-4259-806C-E04D94DC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8A40B-5C9C-4159-AC5C-B55DE9BB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03342-BD19-4EE3-8565-87DCFCFE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156E1-6848-4C3C-8DBC-09C132C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0A605-9A73-427D-9C26-2237683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B28FF-56CC-4A55-9B93-85D1090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78AAC-C36C-493E-B087-3BF3AA61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3FF2-C9A9-46C3-B540-E15F4E6A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E935-45D7-4B53-BDDE-E4E1C60C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42BA1-2453-447E-9761-EFEC406A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36310-6923-47B5-AE1D-0DAC1133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DC0-2599-4217-B752-028E1E00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2241E-04B2-47FE-B927-07EAD7D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DC89C-6F3A-4478-AFC6-FE19648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8DD50-2491-4538-BD00-30CAF07B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AF8DF-0B7B-424F-93FC-6E2BD4E1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54AB6-B2CC-4154-9C5C-E09A839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9C5E8-99C8-442E-8DF6-FC1C3A1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6E937-C67C-4B14-84FE-61E85AD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6EA5F-26F4-4A48-8C32-545B9A68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70E0-4917-4048-8C15-3D9B1CA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D94B5-2F3D-4508-9C71-82F5B0E8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6BD-2510-4A33-A120-BA4DFE90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B6130-3115-4C08-B11F-80E4B6A9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581DC-4BD3-41E2-9BA5-4B2A6708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CF2D4-9980-48AE-A741-28E8509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E72AC-D8A3-456A-BE81-F361A342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54B0A-6277-43DB-B9C5-6011324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FF775-B4D7-4E65-AF2B-EBC65789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645BE-1B90-40A3-A2B4-7771155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452E0-4B06-47C3-98F8-DDE6F19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DD643-34C9-45C5-ACEF-BE996369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CB8F2-A8C5-4370-A48B-CE797D6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03B-DDC9-45F8-9BB0-71B6C2C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CF0F-EDDF-4CD3-856F-4E740DDA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8C85-B809-4A1F-AE19-BFC55E8C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CF75-7C04-4A95-AA84-FA78A1F7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F5A13-F618-4835-94DC-8E88B28A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A33E8-36B0-491C-9587-1EC7F0D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5D07C-A121-4950-A42D-E6D1387A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BA5E-061C-4BD0-8F81-C53BBC2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EEF3-D829-4E7E-82FA-B7486F6C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64A05-ECCD-4AC3-BBA5-0DE405CF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9E400-17F2-48C6-97FD-2E75E7CD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BFA-EF20-4A4B-A358-C0ACB83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FCCAD-7810-4226-81C3-47CEF06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DA36F-CDAA-4747-AA9C-18950FA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40C2-CF21-4937-80D5-268E8E6D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3FC2-E767-4C96-83B7-2E3E7010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49A6C-828F-4449-9F95-BA3C4AEB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388C-B8CA-424E-980C-9F5B65A0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3C583-27D2-4D25-91E8-869AC26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E452C-7971-4F8E-867F-8DFB4417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C17B3-DCE4-4D46-9AFF-9185C9F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7550-F9FA-4C3B-912D-6747B2E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831-63A1-4929-A4F4-60CB6D7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16EB-62D4-40C4-A4D5-E2546D31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589F7-85FE-4F16-AEBD-48506367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705E3-E7E9-4DDA-9E16-5C18F354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62D77-5166-4941-896A-3107D4E1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370B3-C493-4621-B4AC-27F6A77F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44C9-38B9-437C-8DC7-418A8497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74553-1BFE-4E88-8098-3C0BD744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67527-6EB1-49C8-A85B-2226841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5E790-5813-4234-8111-66F796FE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4AA6B-D2BE-4EA1-BA92-AAC51269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3B08-97D7-478D-A5E9-71B8CD3D40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71BE-1F1D-49FC-B5D6-68F56F7EDD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2690-F7C3-4C57-80DD-542A34CAA9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3A30-F571-4A60-A27B-A79CAAA1CF9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6AF-E80A-4B6E-AD83-05F4F787C54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13C-E9CA-4D6C-8634-4EA97FA9D8A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6B6-0727-48EC-85F4-22921198746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CC59-AC4F-4B05-923B-D6736C438A4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B55D-1AB6-4E5B-9608-FCEB1D52130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8BFD-3E61-4D14-ACDC-8EAB94C23B6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DB1D-63A0-40B9-9E32-5090CAFEE4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7E52-436E-4094-9A49-35BCF43EBD5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9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0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3.jpe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Kako znamo da tijelo ima energij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5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us: kolica s oprug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je pokrenulo kol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 li elastična opruga energ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Elastična energ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Picture 5" descr="SnapShot(449).jpg"/>
          <p:cNvPicPr/>
          <p:nvPr/>
        </p:nvPicPr>
        <p:blipFill>
          <a:blip r:embed="rId4"/>
          <a:srcRect l="6890" t="28696" r="0" b="12598"/>
          <a:stretch/>
        </p:blipFill>
        <p:spPr>
          <a:xfrm>
            <a:off x="1547640" y="2276640"/>
            <a:ext cx="5959800" cy="2114280"/>
          </a:xfrm>
          <a:prstGeom prst="rect">
            <a:avLst/>
          </a:prstGeom>
          <a:ln w="0">
            <a:noFill/>
          </a:ln>
        </p:spPr>
      </p:pic>
      <p:pic>
        <p:nvPicPr>
          <p:cNvPr id="530" name="Slika 3" descr=""/>
          <p:cNvPicPr/>
          <p:nvPr/>
        </p:nvPicPr>
        <p:blipFill>
          <a:blip r:embed="rId5"/>
          <a:stretch/>
        </p:blipFill>
        <p:spPr>
          <a:xfrm>
            <a:off x="0" y="-1440"/>
            <a:ext cx="9144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stisnutoj ili rastegnutoj opruzi pohranjena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astična energija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a je zbog toga opruga djelovala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lastičnom silo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lastičnu energiju imaju sva elastična tijela u izobličenom stanju: gumena lopta, gumena vrpca, čelična šipka, zategnuti luk 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6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Kemijska ener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a zapaljenog gor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 li petrolej za baklje energ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ako znamo da je i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3" descr="SnapShot(493).jpg"/>
          <p:cNvPicPr/>
          <p:nvPr/>
        </p:nvPicPr>
        <p:blipFill>
          <a:blip r:embed="rId7"/>
          <a:srcRect l="20276" t="0" r="27756" b="18198"/>
          <a:stretch/>
        </p:blipFill>
        <p:spPr>
          <a:xfrm>
            <a:off x="4716360" y="2205000"/>
            <a:ext cx="3421080" cy="3029040"/>
          </a:xfrm>
          <a:prstGeom prst="rect">
            <a:avLst/>
          </a:prstGeom>
          <a:ln w="0">
            <a:noFill/>
          </a:ln>
        </p:spPr>
      </p:pic>
      <p:pic>
        <p:nvPicPr>
          <p:cNvPr id="536" name="Slika 3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Odakle gorivima energi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Goriva imaju kemijsku energij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Kemijsku energiju ima i hr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je energija pohranjena u kemijskim vezama između čestica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vi-VN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39" name="Slika 1" descr=""/>
          <p:cNvPicPr/>
          <p:nvPr/>
        </p:nvPicPr>
        <p:blipFill>
          <a:blip r:embed="rId6"/>
          <a:stretch/>
        </p:blipFill>
        <p:spPr>
          <a:xfrm>
            <a:off x="4836960" y="1600200"/>
            <a:ext cx="405288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Sunčeva (solarna) energi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oblike energije dobivamo od Sun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unce zrači energiju, pa kažemo da je ono izvor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nergije zračenja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 Od svih oblika energije koje Sunce zrači, nauočljivija nam je svijetlos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a koja dolazi od Sunca pohranjuje se u Zemljinom pokrivaču, biljkama i životinj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Vrste energi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a imaju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kinetičku energiju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bog toga što se gib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Tijela imaju energiju i zbog toga što 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međudjeluju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 Tu energiju nazivamo </a:t>
            </a: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potencijaln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a povezana sa zagrijavanjem je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unutarnja energija tije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tencijalna energija može bi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gravitacijsk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elastičn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električn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lang="sv-SE" sz="3200" spc="-1" strike="noStrike">
                <a:solidFill>
                  <a:srgbClr val="000000"/>
                </a:solidFill>
                <a:latin typeface="Calibri"/>
              </a:rPr>
              <a:t>magnetsk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e)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kemijsk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vi-VN" sz="3200" spc="-1" strike="noStrike">
                <a:solidFill>
                  <a:srgbClr val="000000"/>
                </a:solidFill>
                <a:latin typeface="Calibri"/>
              </a:rPr>
              <a:t>f) </a:t>
            </a:r>
            <a:r>
              <a:rPr b="1" lang="vi-VN" sz="3200" spc="-1" strike="noStrike">
                <a:solidFill>
                  <a:srgbClr val="000000"/>
                </a:solidFill>
                <a:latin typeface="Calibri"/>
              </a:rPr>
              <a:t>nuklearn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Slika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78920" y="347400"/>
            <a:ext cx="8713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zmisl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spišite tablicu s različitim oblicima energije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idružite im jedan od dvaju oblika na koji 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ogu svesti ( potencijalna ili kinetička energi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2. Bi li gravitacijska energija utega na Mjesecu 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ekoj visini bila jednaka gravitacijskoj energij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oga utega na jednakoj visini na Zemlji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Raspravite o t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Slika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50" name="Slika 1" descr=""/>
          <p:cNvPicPr/>
          <p:nvPr/>
        </p:nvPicPr>
        <p:blipFill>
          <a:blip r:embed="rId2"/>
          <a:stretch/>
        </p:blipFill>
        <p:spPr>
          <a:xfrm>
            <a:off x="0" y="633240"/>
            <a:ext cx="107460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Vidimo li energiju?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tijela u učionici imaju energiju? Kako znamo da neko tijelo ima energiju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 razliku od sile koju prepoznajemo po učinku, energiju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epoznajemo p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mogućem učinku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ka za energiju: 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rna jedinica: džul, 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e oblike energije imaju tijela koja vidite oko sebe u učionic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Žarulje za rad trebaju električnu energiju i daju nam svjetlosnu. Radijatori zagrijavaju okolin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Slika 3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519120" y="1810800"/>
            <a:ext cx="412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kuglica u žlije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 li energiju kuglica koja se gib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4"/>
          <a:stretch/>
        </p:blipFill>
        <p:spPr>
          <a:xfrm>
            <a:off x="4932360" y="2133720"/>
            <a:ext cx="3900600" cy="25542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5280" y="667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Kinetička energ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Slika 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u koju ima tijelo zato što se giba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energijom gibanja ili kinetička energi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znaka kinetičke energije je E</a:t>
            </a:r>
            <a:r>
              <a:rPr b="0" lang="hr-HR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Što će se dogoditi, ako lopticu gurnemo brž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o ima veću kinetičku energiju ako se giba brž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Od dva tijela koja se gibaju jednako brzo, veću kinetičku energiju ima tijelo veće m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Slika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Gravitacijska energ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Pokus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: dva utega jednakih masa padaju s različite vis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maju li utezi energij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Jesu li energije utega jedna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521" name="Slika 1" descr=""/>
          <p:cNvPicPr/>
          <p:nvPr/>
        </p:nvPicPr>
        <p:blipFill>
          <a:blip r:embed="rId5"/>
          <a:stretch/>
        </p:blipFill>
        <p:spPr>
          <a:xfrm>
            <a:off x="5724360" y="1916280"/>
            <a:ext cx="3151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3000" spc="-1" strike="noStrike">
                <a:solidFill>
                  <a:srgbClr val="000000"/>
                </a:solidFill>
                <a:latin typeface="Calibri"/>
              </a:rPr>
              <a:t>Pokus: </a:t>
            </a: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utezi različite mase padaju u pijesa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Jesu li energije utega na stolu jednak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O čemu sada ovisi energij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Calibri"/>
              </a:rPr>
              <a:t>Što će se dogoditi ispustite li utege u posudu s pijeskom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2" descr="C:\Users\Zdenka\Desktop\Otkrivamo fiziku 7\3 - ENERGIJA\002 uteg od 1 i 2 kg na istoj visini.JPG"/>
          <p:cNvPicPr/>
          <p:nvPr/>
        </p:nvPicPr>
        <p:blipFill>
          <a:blip r:embed="rId6"/>
          <a:srcRect l="20288" t="6197" r="22536" b="4510"/>
          <a:stretch/>
        </p:blipFill>
        <p:spPr>
          <a:xfrm>
            <a:off x="5364000" y="836640"/>
            <a:ext cx="2548080" cy="5305320"/>
          </a:xfrm>
          <a:prstGeom prst="rect">
            <a:avLst/>
          </a:prstGeom>
          <a:ln w="0">
            <a:noFill/>
          </a:ln>
        </p:spPr>
      </p:pic>
      <p:pic>
        <p:nvPicPr>
          <p:cNvPr id="524" name="Slika 3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Energija koju tijelo ima zato što je na nekoj visini iznad Zemljine površine nazivamo </a:t>
            </a:r>
            <a:r>
              <a:rPr b="1" lang="hr-HR" sz="3200" spc="-1" strike="noStrike">
                <a:solidFill>
                  <a:srgbClr val="000000"/>
                </a:solidFill>
                <a:latin typeface="Calibri"/>
              </a:rPr>
              <a:t>gravitacijska 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u energiju ima tijelo zbog djelovanja sile tež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Tijelo ima veću gravitacijsku energiju ako je na većoj visini i ako mu je masa već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6" name="Slika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5:14:39Z</dcterms:created>
  <dc:creator>Mladen Vidović</dc:creator>
  <dc:description/>
  <dc:language>en-US</dc:language>
  <cp:lastModifiedBy>MArina Dumančić</cp:lastModifiedBy>
  <dcterms:modified xsi:type="dcterms:W3CDTF">2019-09-14T14:20:32Z</dcterms:modified>
  <cp:revision>155</cp:revision>
  <dc:subject/>
  <dc:title>PowerPoint Presentation</dc:title>
</cp:coreProperties>
</file>